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5CB7-0868-42E4-A76D-36CCA4193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B1C1-C9C0-4FE4-90FA-EA2675C0F2FD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90F2-8439-49DB-B479-F969F1A74ED7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2AF9-82DE-42AD-A798-D68AE1D3E481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91A5-368C-42B0-BF3A-A9D4B7AB75FD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6D48-8122-432F-B360-FB2C1884F400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EDCD-7A10-41B7-9514-D28C9EB1A054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4052-B1AC-4457-9A38-D230CBA0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D05A-8EBB-4D56-B102-02CD6C62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F275-D226-42C1-8ABB-8CFC0C2F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8CD1-50CE-4831-931F-4C7DB51A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1BAA-143F-4D21-9411-1676F9AE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E444-D349-40DC-8EF2-78444BB2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0AAF-65D6-4EDC-B5A6-A401B085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4391-B0F2-43BB-BD36-E470B676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6C49-C93C-4C4C-923C-56D96D9A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EF2F-AC7E-4391-ABA7-A04755E0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D7AF-0966-4945-B5EB-24848C6E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A90-4262-426E-A259-78022E69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A57E-1708-43E3-B355-72811875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7E0F-8370-402F-B0E9-6688D102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3AA4-7AF1-4FD6-9DB3-4711FEAE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115C-CF7D-467D-91BA-E5483095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701B-394C-4707-88DC-B69B3E7E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9D9-6232-4CA5-9B27-59D7B7B0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750-D553-4FF0-B158-8167B481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7698-9E39-4177-B7AF-D2CDB63D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3A0-E404-4B15-BEE3-5268CEB1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086-B7CD-4741-BC25-0CEC2A14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CE33-8EF0-4094-AD56-A9BB7119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B35-7A2F-4EEE-B069-4861F5C8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D32B-FA5E-44D7-8200-B191EE0B2B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1E04-00E6-43A5-90C0-9AA44B4EE84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2952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Rage Italic"/>
              </a:rPr>
              <a:t>The 1950s Rebels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533520" y="762120"/>
            <a:ext cx="79246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urry Up"/>
              </a:rPr>
              <a:t>Beatniks &amp; Rock n Ro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urry Up"/>
              <a:ea typeface="Hurry Up"/>
            </a:endParaRPr>
          </a:p>
        </p:txBody>
      </p:sp>
      <p:pic>
        <p:nvPicPr>
          <p:cNvPr id="221" name="Picture 5" descr="MCj04159800000[1]"/>
          <p:cNvPicPr/>
          <p:nvPr/>
        </p:nvPicPr>
        <p:blipFill>
          <a:blip r:embed="rId1"/>
          <a:stretch/>
        </p:blipFill>
        <p:spPr>
          <a:xfrm>
            <a:off x="5943600" y="3691080"/>
            <a:ext cx="267336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4"/>
          <p:cNvSpPr txBox="1"/>
          <p:nvPr/>
        </p:nvSpPr>
        <p:spPr>
          <a:xfrm>
            <a:off x="990720" y="152280"/>
            <a:ext cx="7162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The Other Amer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226360" cy="6019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your groups you will have 1 day to write a rock n roll song about one of the following group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n America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panic America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living in the Appalachian Mt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song must tell a story about your group’s experiences in the 1950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have/include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bulary words from the read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tanzas &amp; 3 repeated choru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copy of the song is due to me by the end of clas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01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950s FEAR = Teenag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0080" y="1676520"/>
            <a:ext cx="822636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uvenile delinquenc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- antisocia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36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criminal behavior of young peopl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book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1,000,000 Delinquents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dicted that by 1955 1 million teens would have criminal record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Film"/>
          <p:cNvSpPr/>
          <p:nvPr/>
        </p:nvSpPr>
        <p:spPr>
          <a:xfrm>
            <a:off x="2666880" y="4876920"/>
            <a:ext cx="1133640" cy="1752480"/>
          </a:xfrm>
          <a:custGeom>
            <a:avLst/>
            <a:gdLst>
              <a:gd name="textAreaLeft" fmla="*/ 260280 w 1133640"/>
              <a:gd name="textAreaRight" fmla="*/ 896400 w 1133640"/>
              <a:gd name="textAreaTop" fmla="*/ 659520 h 1752480"/>
              <a:gd name="textAreaBottom" fmla="*/ 108936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Film"/>
          <p:cNvSpPr/>
          <p:nvPr/>
        </p:nvSpPr>
        <p:spPr>
          <a:xfrm>
            <a:off x="4038480" y="4876920"/>
            <a:ext cx="1133640" cy="1752480"/>
          </a:xfrm>
          <a:custGeom>
            <a:avLst/>
            <a:gdLst>
              <a:gd name="textAreaLeft" fmla="*/ 260280 w 1133640"/>
              <a:gd name="textAreaRight" fmla="*/ 896400 w 1133640"/>
              <a:gd name="textAreaTop" fmla="*/ 659520 h 1752480"/>
              <a:gd name="textAreaBottom" fmla="*/ 108936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Film"/>
          <p:cNvSpPr/>
          <p:nvPr/>
        </p:nvSpPr>
        <p:spPr>
          <a:xfrm>
            <a:off x="5410080" y="4876920"/>
            <a:ext cx="1133640" cy="1752480"/>
          </a:xfrm>
          <a:custGeom>
            <a:avLst/>
            <a:gdLst>
              <a:gd name="textAreaLeft" fmla="*/ 260280 w 1133640"/>
              <a:gd name="textAreaRight" fmla="*/ 896400 w 1133640"/>
              <a:gd name="textAreaTop" fmla="*/ 659520 h 1752480"/>
              <a:gd name="textAreaBottom" fmla="*/ 108936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276720" y="1371240"/>
            <a:ext cx="5481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ly white artist who felt “beat down” by American culture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for alternative lifestyles (rejected suburb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the rebels, the non-conformis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Jack Keroua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 wrote “On The Road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455760" y="272880"/>
            <a:ext cx="8226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urry Up"/>
              </a:rPr>
              <a:t>The Beatnik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urry Up"/>
              <a:ea typeface="Hurry Up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3078360" cy="489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79200" y="1752480"/>
            <a:ext cx="3273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3888000" cy="4352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33" name="WordArt 4"/>
          <p:cNvSpPr txBox="1"/>
          <p:nvPr/>
        </p:nvSpPr>
        <p:spPr>
          <a:xfrm>
            <a:off x="457200" y="457200"/>
            <a:ext cx="8226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urry Up"/>
              </a:rPr>
              <a:t>Rock n Ro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urry Up"/>
              <a:ea typeface="Hurry Up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6840" y="2742840"/>
            <a:ext cx="8226360" cy="3886200"/>
          </a:xfrm>
          <a:prstGeom prst="rect">
            <a:avLst/>
          </a:prstGeom>
          <a:solidFill>
            <a:srgbClr val="eaeaea">
              <a:alpha val="4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k ‘n’ roll = music with a loud and heavy be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yed by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lan Fre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Cleveland, Ohi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luenced by African American rhythm and blu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RED parents! =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Generation ga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5"/>
          <p:cNvSpPr txBox="1"/>
          <p:nvPr/>
        </p:nvSpPr>
        <p:spPr>
          <a:xfrm>
            <a:off x="455760" y="1920960"/>
            <a:ext cx="8226360" cy="17366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urry Up"/>
              </a:rPr>
              <a:t>Rock 'n' Roll IC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urry Up"/>
              <a:ea typeface="Hurry Up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ear = African American music will influence white teens!!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4"/>
          <p:cNvSpPr txBox="1"/>
          <p:nvPr/>
        </p:nvSpPr>
        <p:spPr>
          <a:xfrm>
            <a:off x="455760" y="272880"/>
            <a:ext cx="8226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urry Up"/>
              </a:rPr>
              <a:t>Rock 'n' Roll IC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urry Up"/>
              <a:ea typeface="Hurry Up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581280" y="47242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entury Gothic"/>
              </a:rPr>
              <a:t>Little Richard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095880" y="5029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entury Gothic"/>
              </a:rPr>
              <a:t>Elvi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19320" y="51814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entury Gothic"/>
              </a:rPr>
              <a:t>Chuck Berr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Picture 9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2838240" cy="32385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"/>
          <p:cNvPicPr/>
          <p:nvPr/>
        </p:nvPicPr>
        <p:blipFill>
          <a:blip r:embed="rId2"/>
          <a:stretch/>
        </p:blipFill>
        <p:spPr>
          <a:xfrm>
            <a:off x="3505320" y="2362320"/>
            <a:ext cx="2252520" cy="2236680"/>
          </a:xfrm>
          <a:prstGeom prst="rect">
            <a:avLst/>
          </a:prstGeom>
          <a:ln w="0">
            <a:noFill/>
          </a:ln>
        </p:spPr>
      </p:pic>
      <p:sp>
        <p:nvSpPr>
          <p:cNvPr id="243" name="Film"/>
          <p:cNvSpPr/>
          <p:nvPr/>
        </p:nvSpPr>
        <p:spPr>
          <a:xfrm>
            <a:off x="304920" y="5181480"/>
            <a:ext cx="828720" cy="1295640"/>
          </a:xfrm>
          <a:custGeom>
            <a:avLst/>
            <a:gdLst>
              <a:gd name="textAreaLeft" fmla="*/ 190080 w 828720"/>
              <a:gd name="textAreaRight" fmla="*/ 655200 w 828720"/>
              <a:gd name="textAreaTop" fmla="*/ 487440 h 1295640"/>
              <a:gd name="textAreaBottom" fmla="*/ 80532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Film"/>
          <p:cNvSpPr/>
          <p:nvPr/>
        </p:nvSpPr>
        <p:spPr>
          <a:xfrm>
            <a:off x="5562720" y="5334120"/>
            <a:ext cx="828720" cy="1295280"/>
          </a:xfrm>
          <a:custGeom>
            <a:avLst/>
            <a:gdLst>
              <a:gd name="textAreaLeft" fmla="*/ 190080 w 828720"/>
              <a:gd name="textAreaRight" fmla="*/ 655200 w 828720"/>
              <a:gd name="textAreaTop" fmla="*/ 487440 h 1295280"/>
              <a:gd name="textAreaBottom" fmla="*/ 80532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Film"/>
          <p:cNvSpPr/>
          <p:nvPr/>
        </p:nvSpPr>
        <p:spPr>
          <a:xfrm>
            <a:off x="8229600" y="4648320"/>
            <a:ext cx="828720" cy="1295280"/>
          </a:xfrm>
          <a:custGeom>
            <a:avLst/>
            <a:gdLst>
              <a:gd name="textAreaLeft" fmla="*/ 190080 w 828720"/>
              <a:gd name="textAreaRight" fmla="*/ 655200 w 828720"/>
              <a:gd name="textAreaTop" fmla="*/ 487440 h 1295280"/>
              <a:gd name="textAreaBottom" fmla="*/ 80532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17" descr="http://www.8notes.com/images/artists/elvis-presley.jpg"/>
          <p:cNvPicPr/>
          <p:nvPr/>
        </p:nvPicPr>
        <p:blipFill>
          <a:blip r:embed="rId3"/>
          <a:stretch/>
        </p:blipFill>
        <p:spPr>
          <a:xfrm>
            <a:off x="6248520" y="1676520"/>
            <a:ext cx="2590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4"/>
          <p:cNvSpPr txBox="1"/>
          <p:nvPr/>
        </p:nvSpPr>
        <p:spPr>
          <a:xfrm>
            <a:off x="536400" y="92160"/>
            <a:ext cx="8226720" cy="17366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urry Up"/>
              </a:rPr>
              <a:t>Rock 'n' Roll IC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urry Up"/>
              <a:ea typeface="Hurry Up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New Dance Move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The Stroll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The Fl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The Twis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Film"/>
          <p:cNvSpPr/>
          <p:nvPr/>
        </p:nvSpPr>
        <p:spPr>
          <a:xfrm>
            <a:off x="4952880" y="4952880"/>
            <a:ext cx="676440" cy="1524240"/>
          </a:xfrm>
          <a:custGeom>
            <a:avLst/>
            <a:gdLst>
              <a:gd name="textAreaLeft" fmla="*/ 155160 w 676440"/>
              <a:gd name="textAreaRight" fmla="*/ 534960 w 676440"/>
              <a:gd name="textAreaTop" fmla="*/ 573480 h 1524240"/>
              <a:gd name="textAreaBottom" fmla="*/ 94752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Film"/>
          <p:cNvSpPr/>
          <p:nvPr/>
        </p:nvSpPr>
        <p:spPr>
          <a:xfrm>
            <a:off x="3276720" y="4952880"/>
            <a:ext cx="676080" cy="1524240"/>
          </a:xfrm>
          <a:custGeom>
            <a:avLst/>
            <a:gdLst>
              <a:gd name="textAreaLeft" fmla="*/ 155160 w 676080"/>
              <a:gd name="textAreaRight" fmla="*/ 534600 w 676080"/>
              <a:gd name="textAreaTop" fmla="*/ 573480 h 1524240"/>
              <a:gd name="textAreaBottom" fmla="*/ 94752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Film"/>
          <p:cNvSpPr/>
          <p:nvPr/>
        </p:nvSpPr>
        <p:spPr>
          <a:xfrm>
            <a:off x="4124160" y="4952880"/>
            <a:ext cx="676440" cy="1524240"/>
          </a:xfrm>
          <a:custGeom>
            <a:avLst/>
            <a:gdLst>
              <a:gd name="textAreaLeft" fmla="*/ 155160 w 676440"/>
              <a:gd name="textAreaRight" fmla="*/ 534960 w 676440"/>
              <a:gd name="textAreaTop" fmla="*/ 573480 h 1524240"/>
              <a:gd name="textAreaBottom" fmla="*/ 94752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cline of Inner Cit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White families moved to suburbs and inner cities were home to poor, less educated minority groups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No more taxes from middle class = deterioration of cities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Urban renewal programs try to help eliminate poverty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Tear down slums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Build new high rise buildings for poor residents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Government made the poor stay poor &amp; would evict residents as soon as they began to earn $$ $$ $$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0:41:48Z</dcterms:created>
  <dc:creator>Administrator</dc:creator>
  <dc:description/>
  <dc:language>en-US</dc:language>
  <cp:lastModifiedBy>Administrator</cp:lastModifiedBy>
  <dcterms:modified xsi:type="dcterms:W3CDTF">2013-03-04T16:01:29Z</dcterms:modified>
  <cp:revision>32</cp:revision>
  <dc:subject/>
  <dc:title>Slide 1</dc:title>
</cp:coreProperties>
</file>